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6F4-59C3-405E-A7F4-C30D5C5B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EC1-B8F0-4BA0-A527-41EF2C0C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2C9-7059-4438-AB62-09EBAD23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947-EDB0-4C6F-9B26-6D9015B1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A87-FEB4-48E3-BCC0-EA9B0265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3B0-BC60-4038-B20C-E330CBF6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49B-21BF-43EE-8063-9D77A0B7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769-03D5-4DF8-A020-768BAF0F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187-349E-4564-A39E-C231806A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4BF-E37C-4756-9ECF-FD69734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045-F030-443E-BDF2-30AC585E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533-FC95-47EB-922F-1B5BE36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658-3DAA-4352-AB81-A263304CF0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Time serie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mbria"/>
              </a:rPr>
              <a:t>4C Smoothing time seri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How do we make predictions when time series data is non-linear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the data is random or cyclical, we use a technique called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moothing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the data is seasonal we use a method called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easonal adjustment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(Ex 4F)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moothing removes random fluctuations and makes it easier to observe trend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re are two methods of smoothing random or cyclical time series patterns: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median smoothing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(Ex 4E) and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moving-average smoothing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Moving-average smoothing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averages of data can be used to represent the original data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4C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85840" y="285840"/>
          <a:ext cx="8572320" cy="6357960"/>
        </p:xfrm>
        <a:graphic>
          <a:graphicData uri="http://schemas.openxmlformats.org/drawingml/2006/table">
            <a:tbl>
              <a:tblPr/>
              <a:tblGrid>
                <a:gridCol w="1209600"/>
                <a:gridCol w="947880"/>
                <a:gridCol w="641484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moothed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3357720" y="1722600"/>
          <a:ext cx="3143160" cy="69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722600"/>
                    <a:ext cx="314316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4"/>
          <p:cNvGraphicFramePr/>
          <p:nvPr/>
        </p:nvGraphicFramePr>
        <p:xfrm>
          <a:off x="3357720" y="2381400"/>
          <a:ext cx="311436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2381400"/>
                    <a:ext cx="3114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5"/>
          <p:cNvGraphicFramePr/>
          <p:nvPr/>
        </p:nvGraphicFramePr>
        <p:xfrm>
          <a:off x="3429000" y="3111480"/>
          <a:ext cx="307188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111480"/>
                    <a:ext cx="30718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6"/>
          <p:cNvGraphicFramePr/>
          <p:nvPr/>
        </p:nvGraphicFramePr>
        <p:xfrm>
          <a:off x="3429000" y="3825720"/>
          <a:ext cx="3143160" cy="69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825720"/>
                    <a:ext cx="31431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7"/>
          <p:cNvGraphicFramePr/>
          <p:nvPr/>
        </p:nvGraphicFramePr>
        <p:xfrm>
          <a:off x="3286080" y="4500720"/>
          <a:ext cx="3225960" cy="71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86080" y="4500720"/>
                    <a:ext cx="32259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8"/>
          <p:cNvGraphicFramePr/>
          <p:nvPr/>
        </p:nvGraphicFramePr>
        <p:xfrm>
          <a:off x="3357720" y="5286240"/>
          <a:ext cx="3143160" cy="69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7720" y="5286240"/>
                    <a:ext cx="31431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we use three points to smooth the data, it is called a 3-point moving-average smoothing. We can choose any number of points to smooth the graph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is necessary that the time values are evenly spaced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Predictions using smoothed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wo possibiliti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Predict the next value by eye using the last smoothed valu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Fit a straight line to the smoothed data using either the 3-median of least-squares techniqu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Smoothing using spreadshee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 Ex 4C: 2, 3, 5, 7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22:04:05Z</dcterms:created>
  <dc:creator>08843474</dc:creator>
  <dc:description/>
  <dc:language>en-US</dc:language>
  <cp:lastModifiedBy>08843474</cp:lastModifiedBy>
  <dcterms:modified xsi:type="dcterms:W3CDTF">2011-03-26T05:58:33Z</dcterms:modified>
  <cp:revision>3</cp:revision>
  <dc:subject/>
  <dc:title>Time series</dc:title>
</cp:coreProperties>
</file>